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E70-916F-44C4-A833-3AC102BE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E73-5877-45B7-910F-1DE89A4E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CAF-874D-4401-B902-719FBE76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CFA-BF28-41F1-A72A-7FD8DA49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04DE-376A-4FDF-AF21-0CAB77DD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8E39-DC00-43AC-882D-C8466787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9CC0-240D-403D-90D4-81B384B1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BEC0-9F3A-43A1-865F-5B24EE4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8248-F4AE-4D2B-A823-C5445624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764E-9C36-4257-8C33-95A33252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94EC-BC72-4778-A506-4F4A28C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D05-2AC7-4964-8774-FB8B8520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E8C7-0709-4C6B-9593-471F137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6464-5E69-4FE5-923C-4224661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B9DD-AB75-4E2A-8CFA-DFBBC692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2D2A-612D-45CD-B64E-A9576C7E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50F7-130B-4E34-9A28-59D1C92C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DCA-8050-4075-95BE-F836A323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FE4-172C-498C-9943-F6C8AC19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9DC-4130-4FBE-9FDE-A5A97B71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8E0-0D82-41B0-AE95-6BFC2D32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745-4AFD-4CAE-A13C-9903BC6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348-8088-4E65-AC4C-49FF2AD1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401-929C-4903-8A5D-4CA59DDD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66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Rectangle 9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00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Rectangle 3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00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. 12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ealidades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dd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a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a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i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verb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rv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irv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ñorita, sirva la ensalad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usca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busqu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busqu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busqu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ha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hag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hag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a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d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d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d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vay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vay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vay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se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se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se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o give an affirmative or negative command in th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Ud. or Uds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m, use the present-tens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m as the stem just as you did for negativ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mand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886200" y="579132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dd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e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e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a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verb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rt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r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ñor, </a:t>
            </a:r>
            <a:r>
              <a:rPr b="1" lang="en-US" sz="4800" spc="-1" strike="noStrike">
                <a:solidFill>
                  <a:srgbClr val="00cccc"/>
                </a:solidFill>
                <a:latin typeface="Times New Roman"/>
              </a:rPr>
              <a:t>corte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las chuletas de cer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dd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e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e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a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verb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b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ueb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ñores, 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ruebe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la carne asad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ffirmative and negativ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Ud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Uds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mands have the same spelling changes and irregular forms as negativ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mand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886200" y="579132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he same rules you know f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mands regarding pronouns apply to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Ud. and Uds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as wel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886200" y="579132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ttach pronouns to affirmative command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Dónde ponemos la comid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óngan</a:t>
            </a:r>
            <a:r>
              <a:rPr b="1" lang="en-US" sz="4800" spc="-1" strike="noStrike">
                <a:solidFill>
                  <a:srgbClr val="00cccc"/>
                </a:solidFill>
                <a:latin typeface="Times New Roman"/>
              </a:rPr>
              <a:t>la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en la mes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886200" y="579132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With negative commands, pronouns go right before the verb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omemos la cena ah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, no </a:t>
            </a:r>
            <a:r>
              <a:rPr b="1" lang="en-US" sz="4800" spc="-1" strike="noStrike">
                <a:solidFill>
                  <a:srgbClr val="00cccc"/>
                </a:solidFill>
                <a:latin typeface="Times New Roman"/>
              </a:rPr>
              <a:t>la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an todaví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3886200" y="617220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dd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a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a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i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verb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erd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ier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pierdan Uds. los fósfor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886200" y="609588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19:03:57Z</dcterms:created>
  <dc:creator>NIHS</dc:creator>
  <dc:description/>
  <dc:language>en-US</dc:language>
  <cp:lastModifiedBy>Windows User</cp:lastModifiedBy>
  <dcterms:modified xsi:type="dcterms:W3CDTF">2013-02-20T15:33:14Z</dcterms:modified>
  <cp:revision>3</cp:revision>
  <dc:subject/>
  <dc:title>Ud. and Uds. Commands</dc:title>
</cp:coreProperties>
</file>